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  <p:sldId id="277" r:id="rId71"/>
    <p:sldId id="278" r:id="rId72"/>
    <p:sldId id="279" r:id="rId73"/>
    <p:sldId id="280" r:id="rId74"/>
    <p:sldId id="281" r:id="rId75"/>
    <p:sldId id="282" r:id="rId76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slide" Target="slides/slide22.xml"/><Relationship Id="rId72" Type="http://schemas.openxmlformats.org/officeDocument/2006/relationships/slide" Target="slides/slide23.xml"/><Relationship Id="rId73" Type="http://schemas.openxmlformats.org/officeDocument/2006/relationships/slide" Target="slides/slide24.xml"/><Relationship Id="rId74" Type="http://schemas.openxmlformats.org/officeDocument/2006/relationships/slide" Target="slides/slide25.xml"/><Relationship Id="rId75" Type="http://schemas.openxmlformats.org/officeDocument/2006/relationships/slide" Target="slides/slide26.xml"/><Relationship Id="rId76" Type="http://schemas.openxmlformats.org/officeDocument/2006/relationships/slide" Target="slides/slide27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8B41-97E1-41D6-823F-CE23452F9E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286F-FE5F-471F-845F-67094D99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673B-75E2-4CAF-8822-12AAACF8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36B7-45F1-4910-B863-8DA0E4EE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E3FC-E199-4A3D-89CD-4D776A51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1F4E-AFBE-46EF-B911-C093DE82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BDEB9-8EA7-40CD-A55D-D7795B50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810B3-6A23-43E3-878B-A91C81D765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68CDF8-8747-43A6-8F97-D1B3B612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A46D7-63AF-477C-BE85-6795B7AD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A9962-6503-413C-8FCC-22F453CE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6F61C-44D0-4428-8139-783B27A3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56EAA-30C2-457F-AA9C-7B87C162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54195A-B737-4810-8807-53CEDDAE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4E65-4189-4272-8527-7A612776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DF79A9-30A8-4189-B381-1422C26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63F8F1-2CF7-46DA-AAD8-A61EAFCA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B2ACC-31E3-48AF-9C24-E9650647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A1195A-0E50-4ED0-9AAD-620B895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D0B2B-2BD3-4C7A-B956-FD42A6A77B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A0F3-1172-45A5-9F62-29E1192F79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6848-7A3A-420E-96D5-63FF7DED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EF74-5DC0-4E35-B72C-FC0E1D1C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DF9A-A6FE-4977-A79A-EC6711E2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0DE3-C41D-4D12-8589-8C7C3E47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E6F9-D2CE-4E00-9479-101DA1F5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FC64-2498-4FB3-873D-E0F13539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F192-98E4-4E97-A90F-23D082F4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C705F-78E6-4A25-A5B5-384DCA2E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A552-ABEE-48D6-8A6B-0F863112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4CE2-2E5E-4928-A3E9-0EC727A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0CA5-300C-4F06-9F2C-99D14C7E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3A6C-AAD6-40EC-9041-101CDC4839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988FA-442A-49C2-9F5E-33B043F742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33B21A-9C95-4B97-8770-0ABA9F4A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EF654-3D4B-4FD8-A838-D7425482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7354-4DE3-42CC-9667-A3E647D6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4A112-8DD5-4022-8E6E-35252DC3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00DA5-0D51-448A-9E5C-C83672DA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00B19-AB30-45DB-8F4B-18BD74AA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7D049-76C4-47B4-AC6D-7EDF41EB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D8645-9F35-403A-AD16-0814D02D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F4E8A-F408-4010-B077-1AE9D19F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EEBB3-F43C-42AF-BDE8-100E3068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9F10C-5B56-41B4-8F9B-9D996230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9344D-2441-492B-AAD7-66957387EC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C064A6-F358-4F78-A22C-39B7AAF4F9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64E7-2B33-4921-88E6-D9C20E3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EEA9BB-4B07-4002-A4E0-C90AE37D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48A4BF-0F29-4B9A-A0C9-398F80B1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CF5067-1779-41E7-8C9D-4E328D2F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DFC4F9-04EB-4841-AFAE-F6D0ECDE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A892D2-28A3-4965-A7B8-40715C54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3FFB36-9C60-4DC4-B2C2-7DD518FA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38C89D-119C-4A63-928A-2BEC897E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75F447-3298-40DA-A8AC-CDEEAFCC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9C3109-7468-467E-8349-0BDD38EB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39D67-E050-49A2-B9A8-50A630CE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BF64-7531-4FA6-B877-3C557D9827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D281FB-6443-4D31-A324-9CDD6C7F89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999E-AF8D-4C65-ACA8-B487B5266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5ACA7-D6E4-4FC1-8D2F-66BA7561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3EB83-79D9-4B4F-BA04-1942D402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3AB02-191E-4E08-A902-AE40356D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2CFC-A516-4769-BBAE-0B39FAFC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51D5D-1A15-44D4-A70B-118C3EF8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132ED-BE94-47B5-A33D-7C06176D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82A2F-685F-46CA-9D2A-15E3A387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3F774-D91A-4A7A-A7C5-A2E2A561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8B52E-F53C-4B1F-98C0-B901224B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B291-71CE-4F85-AD7F-6FF237D8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59907-AD61-4603-9229-8FAECCA2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2BB95-096E-4350-9C45-1078206150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3572F-47F7-4B97-9E1D-37FE72AB32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B4A69-FEA8-44DF-92EE-1C13AAB7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1A292-D962-4627-A68F-5F63ECF5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CCCC1-41B5-4CC4-9EC8-57DAF1ED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2CE9C-0166-4C45-ACE5-12838210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97E11-47FD-4687-8DE3-CCB3C157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7F4BC-F940-47CD-AC1B-4031E0FF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A97ED-5A41-4114-AC6D-B93BFF71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66AFA-497B-4E52-B2BA-F03C5A88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042FD-7327-4318-8E8D-AD6E9604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D788B-69DD-482E-9417-703309FF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07B7D-AF0B-4AAA-9FD0-F123F06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E9A59-494A-43B6-B9AA-111F72DEC1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490714-6D36-4773-A199-24C5CE1F7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4A425E-384B-4CD3-A3BC-058D2ABE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C9BB81-8A47-4458-B609-9611F690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CB5285-6C54-4478-B752-AED086DF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1795EC-9C7F-48B8-9805-8B8A714E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6632D-A675-4435-B2E5-411DDB2C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BE6B24-8E05-4D7D-B190-5D249448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88AA82-A34E-47B3-9C06-446E20E0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9DD37E-54E9-49B0-AF13-55C0C222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693DF3-B4AD-4AC6-986C-D5033569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21D810-F3F5-4F48-8300-FCD83ABC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80ABFB-3930-4D92-96B1-8E4FBE0A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764F4A-92D4-42AA-A00B-5DFD824F97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CD474-9BF2-4A5A-B60E-7C71926F9D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910A7-AEDF-46E8-84F7-9DD0C08E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DD178-172A-4902-9CEE-9AABEA45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598E2-BA64-4AA5-8DE5-A40A4E2F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8806D-44BC-41A1-B4F9-5718AF6D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F62E5-C793-41C8-A560-DF7B4D66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0A5D0-6A5C-4011-9834-C8EB4015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EC25-1504-434C-90FB-F3907354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EB623-0805-4906-8B6A-C9AEDFF5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C595F-0EF9-4744-90B0-EBCB13B2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BD27E-5A92-405B-A1EF-88978DC4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6F138-4D80-49CB-A876-7615C9B2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77705-F646-4E67-9611-AF5174F8EE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AD9492-FC09-4F1C-8B31-B6808E0F60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C6AE1-A3C0-4ABA-B10B-C89142C6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A7635B-2E58-4293-BAA1-68D9491F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DADBB7-2C5D-460D-91C0-56848429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D32203-374B-431E-AD2B-3446009B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E6B006-4397-4BCB-A6A2-B33EECF7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A227BF-FABE-495C-B5F0-AE3FB4DC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8E73F-C8C8-4921-8FAD-80D3269B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37FE70-AA2A-4EB3-86C8-5DFBAEBC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528B5-E1C4-43F6-9A3B-4A019800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754450-ECEF-4F67-A9F6-37EC9F30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297660-1896-40C1-A8E9-2CB1B09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1C27E-9E6A-4967-B208-7F67CA95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7375DE-9D6E-4CA6-A97C-078FA39D80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125CC-E503-46EE-A517-4E342C9896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84F16-8877-495D-B566-6BD56E80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BD9C7-C9BD-448E-B6B5-61DEE010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1EA9F-610E-43EC-9CCC-35690FBF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ED4C1-F91C-4BF4-BC56-C56BE17C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498A5-ECDA-4F12-8F35-E96D9D7E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8AB0D-CFA6-44E3-988A-045B6FE5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233A0-C885-4EA5-8696-BF2E71B2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0B2AC-26DE-4CC2-82D6-BA2B3B6E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0A147-ACF1-4E45-97E2-43DE30FF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8722A-0922-4F6C-9086-725FEC0D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643A5-F58F-4A62-8317-07DEB881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28DB8-EEB7-454B-B834-50A5528D8D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7B6AB-CBFE-4009-8210-2D927337E7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60DAF-543B-4E20-BC7D-A05ABF05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2ABDA-68DA-4B39-965A-4DC76E33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C303B-358C-4D46-B391-30B320C5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5027B-0B5A-4F35-9624-09B79EDB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96CF0-6C23-4E64-AD0B-F928DE1D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B869F-1D8F-4425-B543-DEE8BCE3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EA7E4-2BD3-4C56-9C72-DE165A3A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EA72A-AC98-4817-A645-22F38BE6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FE6F6-AA5F-4433-98CA-B2755EC2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57911-0A88-4E5B-AD15-16F43439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D3F2B-B2C9-4AF6-89EF-B86FF32E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CAE34-0EF6-47E4-98A1-FEEDB2BEA7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9A027-650F-4E2F-9734-3DA08DD9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5B3E7-49AA-4E25-BEFF-E1E4871C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5D4BD-FEE3-4B29-B998-73A98B0D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52099-41B5-48C5-9C05-3FAA1262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2E35E-AAE7-4AE0-9584-66043546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E8319-B27F-4B3F-ABDA-CF10BC3B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D54FD-DEB0-455A-9839-3B731F27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7639D-D6A8-464A-84B0-A3BFDC2E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8D0FF-212C-4C99-8872-392B9E7B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FDB5C-5489-4A8A-9130-BCEF34BF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F624C-43B9-44C9-981A-1A00A4CF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6A85C-46F1-4E94-B728-5FA23789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F0EAD-9700-44B8-B50E-ADC899B6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F0C08-CC5C-442B-A018-42F3A935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E5921-0A42-4816-A1F2-322EECC0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45EA0-FB44-4601-9432-8BF54341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9FE14-5E0A-4F82-9D9C-F00A7DC9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15372-7106-4E36-9214-4902A920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89C93-58D9-494F-86CE-8B4E0926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D3FE1-5FD0-44BE-ACBE-39DDFA2A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6E88F-FFB3-47CD-B7F5-6951282A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A5C1E-44CC-43DB-9F68-6330C80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DE532-9007-46A6-833C-66119AE2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5551C-7819-4BF4-BDD3-18CA8005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5EBF9-AFD1-4CA2-888C-2ABB63A1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A3482-9E98-4CBC-8DD1-4954BC4A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CE15D-4414-4CC0-AAF6-BEB6A820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587F4-3554-4349-AA06-24AE1738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A75D4-AE9E-45D7-BCE9-D1D17D07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C4774-38A2-48B7-A1F9-5D139CB2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29A38-8FF2-400B-BECE-71C4FF3A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F5A7C-B115-4430-ADFC-9D64CE57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04DFF-594C-4A73-AF88-CE90E1B4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50191-D152-4F84-82EF-44E7631A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D656D-9167-462A-AB58-6820B98A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D30D3-9C0F-4898-A218-678BEA86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ECA6D-E8D5-4CF0-84F9-2084C23F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943C2-437E-49FD-B118-CA3AB767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20C5B-D9C2-416E-A672-AE81F33E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DE58E-9E90-40CB-887E-ABD92082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41B4E-41F0-420A-BB9D-2BD1438D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73702-0A69-4222-A50B-DDC48C06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D7351-E78B-4273-A350-E9F6FA2A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F980C-F8F3-4EB8-8C55-153C8384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105F1-EFCA-4C8D-8AFA-D3185DBF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EEC57-5000-42D4-A86B-BE79AFCF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64AA1-A7C2-4B24-91F2-4F183DF0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CFA77-2000-45D0-9B6F-D90558A9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E7F45-DDAA-4100-A788-D8198E98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2CF02-8772-467C-8917-6ADCF400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B2D1E-8633-4C2C-94F0-D74F9B80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76209-6462-4F90-91C9-0392BC67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0D93F-D278-41EB-9CE0-BA67F1E9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EE13E-624F-45B1-A45C-55370C74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DDD56-3B45-40BB-A965-A26CE445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E9CE7-D319-40D7-814C-A38546EE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A9F2A-0B64-40E3-91B7-7B5DF8C6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E6DE2-2157-4249-8310-E8BC1F6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9A257-997D-4687-ADA8-332F24B8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23AB1-0BCB-41E3-B867-DE93DD2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C3EE4-0CCB-4E4E-8BCF-4AB02603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5B9B5-158D-428D-8B22-2499939B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A3E73-409F-499F-9947-E3845E37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3FC9C-757D-414D-BE43-CFECA848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3C3DC-45C7-4E15-BFDA-4008FFA9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6B388-7180-4000-B76A-09A5A57A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BC99A-5E48-4B76-92E6-EEA4BB25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6AA64-A393-4F44-AD29-EC015640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3D687-4E10-4F9C-BE05-D179740A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FBC2F7-7212-460B-AE1C-331CC43A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9BA1F-F2D7-4621-9F58-8A17B6F3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26F54-C8DD-4DC8-9622-CFA712A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0BCC1-7566-4B53-A81D-AC754FB5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B0CE6-3893-4639-AB75-72AC7D25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8FE90-889C-42E9-B76B-0C32E378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4DBE8-5092-4E58-A81C-2339F098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9AC23-E6B8-4E87-B413-D4C1F6D7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895B8-7A86-4864-9A1E-C4EA37D2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CC740-A837-4CAE-B56D-B64B3005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E7537-3A4A-47D9-86A7-87D714CD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CB7C9-E3D2-4A81-9BE6-3E0AD6C9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AB516-FB43-4CAD-9DC2-B75786D9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EC830-8FFD-4D92-B467-DC8E448A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D9299-3035-4C13-85C7-A8CB6B31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BDBEC-5CB2-4B37-9604-A7EFBBEF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DBFA0-2CE7-426F-B469-11C037CE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ABC54D-72F6-471C-AB32-49507B56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142B9-200E-43BA-BC7C-796D1F0F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BA651-5452-4B1C-AEB9-05ABE7FF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E1279-904F-4241-ACEF-1A7BE6CB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63278-F8B0-4EDD-87E5-5339F13A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06EA2-CAC8-4FA1-8005-B2B4422C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082E0-B902-491D-AB93-D392DFE9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3AF7E-286C-4AB8-95E6-D0C5D191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B2232-5BFD-4581-A5F6-46AB8B48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BCF1C-BC40-4132-8C0B-ABAB0739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5A33D-4088-48F5-BABC-3980DEA6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F6FF1-AD1E-4F38-9D36-D856A7C4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20235-24E8-4F67-985A-03F8512A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33184-2514-4E90-B70E-5EABC2D7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2C80C-29FF-494F-BC2E-7C25430C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F1E57-31E3-4C2A-A210-95E28470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9829AD-D8A6-48E0-B761-290457A3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91DA5B-368E-4E56-A686-1C43A9B3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B9EF7-3AB4-471F-9B51-85033953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9C983-EEA0-4A51-A993-F850B824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2F0E8-ABB3-42AA-BF73-204958F3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29AF3-6C53-4DD0-9B10-CA753EE3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5E9C78-E6A4-4B24-AEDA-72E81D92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D1A81-3145-4AB7-B0AF-321A33F0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5808A-3B70-4AE5-A59A-32040290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5FC620-FA45-4D7A-8B27-A606649A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8AD12B-94D3-4920-B497-D88519B1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3F13D-35BE-41E2-B147-8111A17F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10381-B0CC-4B2F-B990-FE4E6F17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CE577F-3EE2-4291-9917-781F49B2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227349-4177-4E12-B34D-6106DA2C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539520-69EA-4BF4-AEBD-AF3BB281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F28927-4E10-42E6-8DDF-34C0AFD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04D21-3039-4B9A-84A9-EC6F90A2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1D33B-C004-4380-B5A1-9FCB338B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723F1-A60D-45FC-BE2D-FAD07F6F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1E1F60-EA61-4446-BA94-CEF5E24A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D9D64-1DF4-49B3-8C3B-1BD35506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22069-EA6A-4F5D-BD1D-E6BF9DEF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F3E976-1828-44FB-9740-52E90A13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DCA199-E02C-49A0-8D7F-957F0085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47EBE-5F1A-488F-A597-340C0E8D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57A70-C04E-4CA7-B3D9-4562C0C3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69F292-669B-4101-843D-808C83B6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FB3ED5-DFE9-4AB6-BC98-FBED2F83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C1145-BC32-454D-91B9-02FCEA0F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8E1ABF-5DD3-4233-904C-10AEE05A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5E12B8-CA23-4B6B-8FA9-C8B3F8E9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4AC4C3-52DA-4BCA-9E24-73A9A12E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412F26-7C6C-4722-AB4D-B6A25869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../../../&#30446;&#24405;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00801">
            <a:hlinkClick r:id="rId2"/>
          </p:cNvPr>
          <p:cNvSpPr/>
          <p:nvPr/>
        </p:nvSpPr>
        <p:spPr>
          <a:xfrm>
            <a:off x="1660680" y="208080"/>
            <a:ext cx="1049040" cy="3222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101825">
            <a:hlinkClick r:id="" action="ppaction://hlinkshowjump?jump=firstslide"/>
          </p:cNvPr>
          <p:cNvSpPr/>
          <p:nvPr/>
        </p:nvSpPr>
        <p:spPr>
          <a:xfrm>
            <a:off x="1684440" y="230040"/>
            <a:ext cx="1030320" cy="28584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图片 1101851" descr="探究"/>
          <p:cNvPicPr/>
          <p:nvPr/>
        </p:nvPicPr>
        <p:blipFill>
          <a:blip r:embed="rId2"/>
          <a:srcRect l="0" t="0" r="27946" b="3073"/>
          <a:stretch/>
        </p:blipFill>
        <p:spPr>
          <a:xfrm>
            <a:off x="3171960" y="230040"/>
            <a:ext cx="847440" cy="295560"/>
          </a:xfrm>
          <a:prstGeom prst="rect">
            <a:avLst/>
          </a:prstGeom>
          <a:ln w="0">
            <a:noFill/>
          </a:ln>
        </p:spPr>
      </p:pic>
      <p:pic>
        <p:nvPicPr>
          <p:cNvPr id="39" name="图片 1101852" descr="难题"/>
          <p:cNvPicPr/>
          <p:nvPr/>
        </p:nvPicPr>
        <p:blipFill>
          <a:blip r:embed="rId3"/>
          <a:srcRect l="0" t="0" r="27486" b="6265"/>
          <a:stretch/>
        </p:blipFill>
        <p:spPr>
          <a:xfrm>
            <a:off x="4238640" y="219240"/>
            <a:ext cx="866880" cy="2854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101853" descr="拓展"/>
          <p:cNvPicPr/>
          <p:nvPr/>
        </p:nvPicPr>
        <p:blipFill>
          <a:blip r:embed="rId4"/>
          <a:srcRect l="0" t="0" r="23756" b="0"/>
          <a:stretch/>
        </p:blipFill>
        <p:spPr>
          <a:xfrm>
            <a:off x="5326200" y="217440"/>
            <a:ext cx="855360" cy="30492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101854" descr="巩固"/>
          <p:cNvPicPr/>
          <p:nvPr/>
        </p:nvPicPr>
        <p:blipFill>
          <a:blip r:embed="rId5"/>
          <a:srcRect l="0" t="0" r="7746" b="3664"/>
          <a:stretch/>
        </p:blipFill>
        <p:spPr>
          <a:xfrm>
            <a:off x="6402240" y="219240"/>
            <a:ext cx="849600" cy="29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01855" descr="总结"/>
          <p:cNvPicPr/>
          <p:nvPr/>
        </p:nvPicPr>
        <p:blipFill>
          <a:blip r:embed="rId6"/>
          <a:stretch/>
        </p:blipFill>
        <p:spPr>
          <a:xfrm>
            <a:off x="7472520" y="219240"/>
            <a:ext cx="92052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sldNum" idx="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F888-1949-432A-8A4A-8918F4ACDE7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AF39-A837-4130-8CF2-5FFFFE5D24B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1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sldNum" idx="1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E81F-1E8A-4441-8785-4A606553925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81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2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3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4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5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EAD4-896B-401D-96CF-60DEA37825B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1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sldNum" idx="1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2214-4410-429B-AB02-2A508934396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1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1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289-E3C3-4490-8CC7-FEF4F2AEDF1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1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sldNum" idx="1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481D-C744-42CD-B34A-161673F2A1E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1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1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B48E-86AE-439C-9234-603FC51537E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2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sldNum" idx="2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C9A4-4764-48B9-82C8-21C8296D807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2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2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7D19-B2C5-4CA3-9F97-58FD2DF8875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2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sldNum" idx="2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E410-AEFA-48CB-8F4F-00BE5512035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2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sldNum" idx="2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1AAA-635C-4442-A533-EF2AEA3EFF5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2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2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3211-456D-4C7C-A577-C175CABDF08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3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32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1BF0-F864-458A-85EC-628383AD41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128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9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0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D7B5-5230-45ED-99BE-7976C7C35CF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3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 type="ftr" idx="35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3E67-2E82-4662-AD44-8619F4B3532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37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38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E96C-3F36-44BE-BAB6-7AD27DAE93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 type="dt" idx="4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 type="ftr" idx="41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 type="sldNum" idx="4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B717-A108-4CE6-B3B1-53E62955FCE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 type="dt" idx="4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 type="ftr" idx="4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 type="sldNum" idx="4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9ED0-77A0-42A1-85B0-162E169956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4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47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48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BFFD-536C-41F0-BCC0-C16EC611F0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dt" idx="49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ftr" idx="50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 type="sldNum" idx="5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6950-8780-46FA-B515-8C04EBE2C04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5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ftr" idx="53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 type="sldNum" idx="5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F4DD-7E99-4610-9E5B-0A9465D60E9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 type="dt" idx="5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 type="ftr" idx="56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 type="sldNum" idx="5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472F-7577-461F-9427-610D212A42C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 type="dt" idx="5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 type="ftr" idx="5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 type="sldNum" idx="6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D7D3-0F6E-415C-AF75-22DBD75415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7" name="图片 368689" descr=""/>
          <p:cNvPicPr/>
          <p:nvPr/>
        </p:nvPicPr>
        <p:blipFill>
          <a:blip r:embed="rId1"/>
          <a:srcRect l="39161" t="-3585" r="20167" b="0"/>
          <a:stretch/>
        </p:blipFill>
        <p:spPr>
          <a:xfrm>
            <a:off x="3821040" y="2457360"/>
            <a:ext cx="2820960" cy="7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图片 1260545" descr=""/>
          <p:cNvPicPr/>
          <p:nvPr/>
        </p:nvPicPr>
        <p:blipFill>
          <a:blip r:embed="rId1"/>
          <a:stretch/>
        </p:blipFill>
        <p:spPr>
          <a:xfrm>
            <a:off x="200160" y="1413000"/>
            <a:ext cx="8680320" cy="1876320"/>
          </a:xfrm>
          <a:prstGeom prst="rect">
            <a:avLst/>
          </a:prstGeom>
          <a:ln w="0">
            <a:noFill/>
          </a:ln>
        </p:spPr>
      </p:pic>
      <p:sp>
        <p:nvSpPr>
          <p:cNvPr id="1869" name="矩形 1260546"/>
          <p:cNvSpPr/>
          <p:nvPr/>
        </p:nvSpPr>
        <p:spPr>
          <a:xfrm>
            <a:off x="8131320" y="2403360"/>
            <a:ext cx="4950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0" name="矩形 1260547"/>
          <p:cNvSpPr/>
          <p:nvPr/>
        </p:nvSpPr>
        <p:spPr>
          <a:xfrm>
            <a:off x="8182080" y="2886120"/>
            <a:ext cx="49536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图片 1262593" descr=""/>
          <p:cNvPicPr/>
          <p:nvPr/>
        </p:nvPicPr>
        <p:blipFill>
          <a:blip r:embed="rId1"/>
          <a:stretch/>
        </p:blipFill>
        <p:spPr>
          <a:xfrm>
            <a:off x="977760" y="1352520"/>
            <a:ext cx="7126560" cy="2943360"/>
          </a:xfrm>
          <a:prstGeom prst="rect">
            <a:avLst/>
          </a:prstGeom>
          <a:ln w="0">
            <a:noFill/>
          </a:ln>
        </p:spPr>
      </p:pic>
      <p:sp>
        <p:nvSpPr>
          <p:cNvPr id="1872" name="矩形 1262594"/>
          <p:cNvSpPr/>
          <p:nvPr/>
        </p:nvSpPr>
        <p:spPr>
          <a:xfrm>
            <a:off x="1273320" y="3660840"/>
            <a:ext cx="25272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3" name="矩形 1262595"/>
          <p:cNvSpPr/>
          <p:nvPr/>
        </p:nvSpPr>
        <p:spPr>
          <a:xfrm>
            <a:off x="5349960" y="3699000"/>
            <a:ext cx="25272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4" name="图片 1230866" descr="72"/>
          <p:cNvPicPr/>
          <p:nvPr/>
        </p:nvPicPr>
        <p:blipFill>
          <a:blip r:embed="rId1"/>
          <a:srcRect l="0" t="13423" r="11580" b="0"/>
          <a:stretch/>
        </p:blipFill>
        <p:spPr>
          <a:xfrm>
            <a:off x="2997360" y="766800"/>
            <a:ext cx="2862000" cy="676080"/>
          </a:xfrm>
          <a:prstGeom prst="rect">
            <a:avLst/>
          </a:prstGeom>
          <a:ln w="0">
            <a:noFill/>
          </a:ln>
        </p:spPr>
      </p:pic>
      <p:pic>
        <p:nvPicPr>
          <p:cNvPr id="1875" name="图片 1230869" descr=""/>
          <p:cNvPicPr/>
          <p:nvPr/>
        </p:nvPicPr>
        <p:blipFill>
          <a:blip r:embed="rId2"/>
          <a:stretch/>
        </p:blipFill>
        <p:spPr>
          <a:xfrm>
            <a:off x="360360" y="1809720"/>
            <a:ext cx="8372520" cy="1355760"/>
          </a:xfrm>
          <a:prstGeom prst="rect">
            <a:avLst/>
          </a:prstGeom>
          <a:ln w="0">
            <a:noFill/>
          </a:ln>
        </p:spPr>
      </p:pic>
      <p:pic>
        <p:nvPicPr>
          <p:cNvPr id="1876" name="图片 1230870" descr=""/>
          <p:cNvPicPr/>
          <p:nvPr/>
        </p:nvPicPr>
        <p:blipFill>
          <a:blip r:embed="rId3"/>
          <a:stretch/>
        </p:blipFill>
        <p:spPr>
          <a:xfrm>
            <a:off x="412920" y="3111480"/>
            <a:ext cx="6744960" cy="8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7" name="图片 1264641" descr=""/>
          <p:cNvPicPr/>
          <p:nvPr/>
        </p:nvPicPr>
        <p:blipFill>
          <a:blip r:embed="rId1"/>
          <a:stretch/>
        </p:blipFill>
        <p:spPr>
          <a:xfrm>
            <a:off x="0" y="1176480"/>
            <a:ext cx="8836200" cy="1123920"/>
          </a:xfrm>
          <a:prstGeom prst="rect">
            <a:avLst/>
          </a:prstGeom>
          <a:ln w="0">
            <a:noFill/>
          </a:ln>
        </p:spPr>
      </p:pic>
      <p:pic>
        <p:nvPicPr>
          <p:cNvPr id="1878" name="图片 1264642" descr=""/>
          <p:cNvPicPr/>
          <p:nvPr/>
        </p:nvPicPr>
        <p:blipFill>
          <a:blip r:embed="rId2"/>
          <a:stretch/>
        </p:blipFill>
        <p:spPr>
          <a:xfrm>
            <a:off x="5989680" y="2639880"/>
            <a:ext cx="2652840" cy="1739880"/>
          </a:xfrm>
          <a:prstGeom prst="rect">
            <a:avLst/>
          </a:prstGeom>
          <a:ln w="0">
            <a:noFill/>
          </a:ln>
        </p:spPr>
      </p:pic>
      <p:pic>
        <p:nvPicPr>
          <p:cNvPr id="1879" name="图片 1264643" descr=""/>
          <p:cNvPicPr/>
          <p:nvPr/>
        </p:nvPicPr>
        <p:blipFill>
          <a:blip r:embed="rId3"/>
          <a:stretch/>
        </p:blipFill>
        <p:spPr>
          <a:xfrm>
            <a:off x="223920" y="2523960"/>
            <a:ext cx="1720800" cy="7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0" name="图片 1238033" descr="73"/>
          <p:cNvPicPr/>
          <p:nvPr/>
        </p:nvPicPr>
        <p:blipFill>
          <a:blip r:embed="rId1"/>
          <a:srcRect l="0" t="13343" r="11279" b="0"/>
          <a:stretch/>
        </p:blipFill>
        <p:spPr>
          <a:xfrm>
            <a:off x="2986200" y="771480"/>
            <a:ext cx="2871720" cy="671400"/>
          </a:xfrm>
          <a:prstGeom prst="rect">
            <a:avLst/>
          </a:prstGeom>
          <a:ln w="0">
            <a:noFill/>
          </a:ln>
        </p:spPr>
      </p:pic>
      <p:pic>
        <p:nvPicPr>
          <p:cNvPr id="1881" name="图片 1238034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7991640" cy="2070000"/>
          </a:xfrm>
          <a:prstGeom prst="rect">
            <a:avLst/>
          </a:prstGeom>
          <a:ln w="0">
            <a:noFill/>
          </a:ln>
        </p:spPr>
      </p:pic>
      <p:pic>
        <p:nvPicPr>
          <p:cNvPr id="1882" name="图片 1238035" descr=""/>
          <p:cNvPicPr/>
          <p:nvPr/>
        </p:nvPicPr>
        <p:blipFill>
          <a:blip r:embed="rId3"/>
          <a:stretch/>
        </p:blipFill>
        <p:spPr>
          <a:xfrm>
            <a:off x="3251160" y="3741840"/>
            <a:ext cx="295740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1263617" descr=""/>
          <p:cNvPicPr/>
          <p:nvPr/>
        </p:nvPicPr>
        <p:blipFill>
          <a:blip r:embed="rId1"/>
          <a:stretch/>
        </p:blipFill>
        <p:spPr>
          <a:xfrm>
            <a:off x="571680" y="1403280"/>
            <a:ext cx="7289640" cy="15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4" name="图片 1248261" descr=""/>
          <p:cNvPicPr/>
          <p:nvPr/>
        </p:nvPicPr>
        <p:blipFill>
          <a:blip r:embed="rId1"/>
          <a:stretch/>
        </p:blipFill>
        <p:spPr>
          <a:xfrm>
            <a:off x="465120" y="1015920"/>
            <a:ext cx="6316560" cy="3095640"/>
          </a:xfrm>
          <a:prstGeom prst="rect">
            <a:avLst/>
          </a:prstGeom>
          <a:ln w="0">
            <a:noFill/>
          </a:ln>
        </p:spPr>
      </p:pic>
      <p:sp>
        <p:nvSpPr>
          <p:cNvPr id="1885" name="矩形 1248262"/>
          <p:cNvSpPr/>
          <p:nvPr/>
        </p:nvSpPr>
        <p:spPr>
          <a:xfrm>
            <a:off x="3990960" y="2428920"/>
            <a:ext cx="2895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6" name="图片 1239060" descr="74"/>
          <p:cNvPicPr/>
          <p:nvPr/>
        </p:nvPicPr>
        <p:blipFill>
          <a:blip r:embed="rId1"/>
          <a:srcRect l="0" t="14622" r="12214" b="0"/>
          <a:stretch/>
        </p:blipFill>
        <p:spPr>
          <a:xfrm>
            <a:off x="2997360" y="787320"/>
            <a:ext cx="2841480" cy="666720"/>
          </a:xfrm>
          <a:prstGeom prst="rect">
            <a:avLst/>
          </a:prstGeom>
          <a:ln w="0">
            <a:noFill/>
          </a:ln>
        </p:spPr>
      </p:pic>
      <p:pic>
        <p:nvPicPr>
          <p:cNvPr id="1887" name="图片 1239061" descr=""/>
          <p:cNvPicPr/>
          <p:nvPr/>
        </p:nvPicPr>
        <p:blipFill>
          <a:blip r:embed="rId2"/>
          <a:stretch/>
        </p:blipFill>
        <p:spPr>
          <a:xfrm>
            <a:off x="1657440" y="1535040"/>
            <a:ext cx="5473440" cy="3784680"/>
          </a:xfrm>
          <a:prstGeom prst="rect">
            <a:avLst/>
          </a:prstGeom>
          <a:ln w="0">
            <a:noFill/>
          </a:ln>
        </p:spPr>
      </p:pic>
      <p:sp>
        <p:nvSpPr>
          <p:cNvPr id="1888" name="矩形 1239062"/>
          <p:cNvSpPr/>
          <p:nvPr/>
        </p:nvSpPr>
        <p:spPr>
          <a:xfrm>
            <a:off x="1247760" y="4676760"/>
            <a:ext cx="2895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9" name="矩形 1239063"/>
          <p:cNvSpPr/>
          <p:nvPr/>
        </p:nvSpPr>
        <p:spPr>
          <a:xfrm>
            <a:off x="4562640" y="4753080"/>
            <a:ext cx="2895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0" name="图片 1244164" descr=""/>
          <p:cNvPicPr/>
          <p:nvPr/>
        </p:nvPicPr>
        <p:blipFill>
          <a:blip r:embed="rId1"/>
          <a:stretch/>
        </p:blipFill>
        <p:spPr>
          <a:xfrm>
            <a:off x="1147680" y="965160"/>
            <a:ext cx="6850080" cy="3781440"/>
          </a:xfrm>
          <a:prstGeom prst="rect">
            <a:avLst/>
          </a:prstGeom>
          <a:ln w="0">
            <a:noFill/>
          </a:ln>
        </p:spPr>
      </p:pic>
      <p:sp>
        <p:nvSpPr>
          <p:cNvPr id="1891" name="矩形 1244165"/>
          <p:cNvSpPr/>
          <p:nvPr/>
        </p:nvSpPr>
        <p:spPr>
          <a:xfrm>
            <a:off x="2746440" y="1476360"/>
            <a:ext cx="12826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2" name="矩形 1244166"/>
          <p:cNvSpPr/>
          <p:nvPr/>
        </p:nvSpPr>
        <p:spPr>
          <a:xfrm>
            <a:off x="5641920" y="2009880"/>
            <a:ext cx="17780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3" name="矩形 1244167"/>
          <p:cNvSpPr/>
          <p:nvPr/>
        </p:nvSpPr>
        <p:spPr>
          <a:xfrm>
            <a:off x="5425920" y="2593800"/>
            <a:ext cx="17780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4" name="矩形 1244168"/>
          <p:cNvSpPr/>
          <p:nvPr/>
        </p:nvSpPr>
        <p:spPr>
          <a:xfrm>
            <a:off x="5413320" y="3165480"/>
            <a:ext cx="9525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5" name="矩形 1244169"/>
          <p:cNvSpPr/>
          <p:nvPr/>
        </p:nvSpPr>
        <p:spPr>
          <a:xfrm>
            <a:off x="4105440" y="3711600"/>
            <a:ext cx="12826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6" name="矩形 1244170"/>
          <p:cNvSpPr/>
          <p:nvPr/>
        </p:nvSpPr>
        <p:spPr>
          <a:xfrm>
            <a:off x="1666800" y="4245120"/>
            <a:ext cx="12826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7" name="图片 1247238" descr=""/>
          <p:cNvPicPr/>
          <p:nvPr/>
        </p:nvPicPr>
        <p:blipFill>
          <a:blip r:embed="rId1"/>
          <a:stretch/>
        </p:blipFill>
        <p:spPr>
          <a:xfrm>
            <a:off x="1089000" y="1181160"/>
            <a:ext cx="6485040" cy="2257200"/>
          </a:xfrm>
          <a:prstGeom prst="rect">
            <a:avLst/>
          </a:prstGeom>
          <a:ln w="0">
            <a:noFill/>
          </a:ln>
        </p:spPr>
      </p:pic>
      <p:sp>
        <p:nvSpPr>
          <p:cNvPr id="1898" name="矩形 1247239"/>
          <p:cNvSpPr/>
          <p:nvPr/>
        </p:nvSpPr>
        <p:spPr>
          <a:xfrm>
            <a:off x="1387440" y="1857240"/>
            <a:ext cx="127008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9" name="矩形 1247240"/>
          <p:cNvSpPr/>
          <p:nvPr/>
        </p:nvSpPr>
        <p:spPr>
          <a:xfrm>
            <a:off x="5032440" y="2975040"/>
            <a:ext cx="10285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图片 377064" descr="71"/>
          <p:cNvPicPr/>
          <p:nvPr/>
        </p:nvPicPr>
        <p:blipFill>
          <a:blip r:embed="rId1"/>
          <a:srcRect l="0" t="11993" r="14416" b="0"/>
          <a:stretch/>
        </p:blipFill>
        <p:spPr>
          <a:xfrm>
            <a:off x="2975040" y="755640"/>
            <a:ext cx="2770200" cy="687240"/>
          </a:xfrm>
          <a:prstGeom prst="rect">
            <a:avLst/>
          </a:prstGeom>
          <a:ln w="0">
            <a:noFill/>
          </a:ln>
        </p:spPr>
      </p:pic>
      <p:pic>
        <p:nvPicPr>
          <p:cNvPr id="1859" name="图片 377065" descr=""/>
          <p:cNvPicPr/>
          <p:nvPr/>
        </p:nvPicPr>
        <p:blipFill>
          <a:blip r:embed="rId2"/>
          <a:stretch/>
        </p:blipFill>
        <p:spPr>
          <a:xfrm>
            <a:off x="412920" y="2048040"/>
            <a:ext cx="831816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0" name="图片 1246215" descr=""/>
          <p:cNvPicPr/>
          <p:nvPr/>
        </p:nvPicPr>
        <p:blipFill>
          <a:blip r:embed="rId1"/>
          <a:stretch/>
        </p:blipFill>
        <p:spPr>
          <a:xfrm>
            <a:off x="1095480" y="884160"/>
            <a:ext cx="6954840" cy="3943440"/>
          </a:xfrm>
          <a:prstGeom prst="rect">
            <a:avLst/>
          </a:prstGeom>
          <a:ln w="0">
            <a:noFill/>
          </a:ln>
        </p:spPr>
      </p:pic>
      <p:sp>
        <p:nvSpPr>
          <p:cNvPr id="1901" name="矩形 1246217"/>
          <p:cNvSpPr/>
          <p:nvPr/>
        </p:nvSpPr>
        <p:spPr>
          <a:xfrm>
            <a:off x="7280280" y="2085840"/>
            <a:ext cx="520560" cy="34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2" name="矩形 1246218"/>
          <p:cNvSpPr/>
          <p:nvPr/>
        </p:nvSpPr>
        <p:spPr>
          <a:xfrm>
            <a:off x="7305840" y="3178080"/>
            <a:ext cx="52056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3" name="矩形 1246219"/>
          <p:cNvSpPr/>
          <p:nvPr/>
        </p:nvSpPr>
        <p:spPr>
          <a:xfrm>
            <a:off x="7267680" y="4308480"/>
            <a:ext cx="52056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4" name="图片 1245191" descr=""/>
          <p:cNvPicPr/>
          <p:nvPr/>
        </p:nvPicPr>
        <p:blipFill>
          <a:blip r:embed="rId1"/>
          <a:stretch/>
        </p:blipFill>
        <p:spPr>
          <a:xfrm>
            <a:off x="1173240" y="903240"/>
            <a:ext cx="6799320" cy="3905280"/>
          </a:xfrm>
          <a:prstGeom prst="rect">
            <a:avLst/>
          </a:prstGeom>
          <a:ln w="0">
            <a:noFill/>
          </a:ln>
        </p:spPr>
      </p:pic>
      <p:sp>
        <p:nvSpPr>
          <p:cNvPr id="1905" name="矩形 1245192"/>
          <p:cNvSpPr/>
          <p:nvPr/>
        </p:nvSpPr>
        <p:spPr>
          <a:xfrm>
            <a:off x="7102440" y="1488960"/>
            <a:ext cx="31752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6" name="矩形 1245193"/>
          <p:cNvSpPr/>
          <p:nvPr/>
        </p:nvSpPr>
        <p:spPr>
          <a:xfrm>
            <a:off x="3191040" y="3787920"/>
            <a:ext cx="3171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图片 1243139" descr=""/>
          <p:cNvPicPr/>
          <p:nvPr/>
        </p:nvPicPr>
        <p:blipFill>
          <a:blip r:embed="rId1"/>
          <a:stretch/>
        </p:blipFill>
        <p:spPr>
          <a:xfrm>
            <a:off x="1114560" y="1092240"/>
            <a:ext cx="6408720" cy="3324240"/>
          </a:xfrm>
          <a:prstGeom prst="rect">
            <a:avLst/>
          </a:prstGeom>
          <a:ln w="0">
            <a:noFill/>
          </a:ln>
        </p:spPr>
      </p:pic>
      <p:sp>
        <p:nvSpPr>
          <p:cNvPr id="1908" name="矩形 1243140"/>
          <p:cNvSpPr/>
          <p:nvPr/>
        </p:nvSpPr>
        <p:spPr>
          <a:xfrm>
            <a:off x="2238480" y="1692360"/>
            <a:ext cx="3427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1272833" descr=""/>
          <p:cNvPicPr/>
          <p:nvPr/>
        </p:nvPicPr>
        <p:blipFill>
          <a:blip r:embed="rId1"/>
          <a:stretch/>
        </p:blipFill>
        <p:spPr>
          <a:xfrm>
            <a:off x="770040" y="1257480"/>
            <a:ext cx="5724360" cy="2485800"/>
          </a:xfrm>
          <a:prstGeom prst="rect">
            <a:avLst/>
          </a:prstGeom>
          <a:ln w="0">
            <a:noFill/>
          </a:ln>
        </p:spPr>
      </p:pic>
      <p:sp>
        <p:nvSpPr>
          <p:cNvPr id="1910" name="矩形 1272834"/>
          <p:cNvSpPr/>
          <p:nvPr/>
        </p:nvSpPr>
        <p:spPr>
          <a:xfrm>
            <a:off x="5641920" y="1387440"/>
            <a:ext cx="3430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1" name="图片 1271809" descr=""/>
          <p:cNvPicPr/>
          <p:nvPr/>
        </p:nvPicPr>
        <p:blipFill>
          <a:blip r:embed="rId1"/>
          <a:stretch/>
        </p:blipFill>
        <p:spPr>
          <a:xfrm>
            <a:off x="968400" y="846000"/>
            <a:ext cx="6904080" cy="4019760"/>
          </a:xfrm>
          <a:prstGeom prst="rect">
            <a:avLst/>
          </a:prstGeom>
          <a:ln w="0">
            <a:noFill/>
          </a:ln>
        </p:spPr>
      </p:pic>
      <p:sp>
        <p:nvSpPr>
          <p:cNvPr id="1912" name="矩形 1271810"/>
          <p:cNvSpPr/>
          <p:nvPr/>
        </p:nvSpPr>
        <p:spPr>
          <a:xfrm>
            <a:off x="2035080" y="3800520"/>
            <a:ext cx="5207040" cy="12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3" name="图片 1270785" descr=""/>
          <p:cNvPicPr/>
          <p:nvPr/>
        </p:nvPicPr>
        <p:blipFill>
          <a:blip r:embed="rId1"/>
          <a:stretch/>
        </p:blipFill>
        <p:spPr>
          <a:xfrm>
            <a:off x="1085760" y="1084320"/>
            <a:ext cx="6973920" cy="3543120"/>
          </a:xfrm>
          <a:prstGeom prst="rect">
            <a:avLst/>
          </a:prstGeom>
          <a:ln w="0">
            <a:noFill/>
          </a:ln>
        </p:spPr>
      </p:pic>
      <p:sp>
        <p:nvSpPr>
          <p:cNvPr id="1914" name="矩形 1270786"/>
          <p:cNvSpPr/>
          <p:nvPr/>
        </p:nvSpPr>
        <p:spPr>
          <a:xfrm>
            <a:off x="2136600" y="3114720"/>
            <a:ext cx="5664240" cy="17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图片 1269761" descr=""/>
          <p:cNvPicPr/>
          <p:nvPr/>
        </p:nvPicPr>
        <p:blipFill>
          <a:blip r:embed="rId1"/>
          <a:stretch/>
        </p:blipFill>
        <p:spPr>
          <a:xfrm>
            <a:off x="819000" y="896760"/>
            <a:ext cx="6897960" cy="3791160"/>
          </a:xfrm>
          <a:prstGeom prst="rect">
            <a:avLst/>
          </a:prstGeom>
          <a:ln w="0">
            <a:noFill/>
          </a:ln>
        </p:spPr>
      </p:pic>
      <p:sp>
        <p:nvSpPr>
          <p:cNvPr id="1916" name="矩形 1269762"/>
          <p:cNvSpPr/>
          <p:nvPr/>
        </p:nvSpPr>
        <p:spPr>
          <a:xfrm>
            <a:off x="1920960" y="3191040"/>
            <a:ext cx="5537160" cy="151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7" name="图片 1257480" descr="75"/>
          <p:cNvPicPr/>
          <p:nvPr/>
        </p:nvPicPr>
        <p:blipFill>
          <a:blip r:embed="rId1"/>
          <a:srcRect l="0" t="0" r="11958" b="0"/>
          <a:stretch/>
        </p:blipFill>
        <p:spPr>
          <a:xfrm>
            <a:off x="3174840" y="693720"/>
            <a:ext cx="2829240" cy="781200"/>
          </a:xfrm>
          <a:prstGeom prst="rect">
            <a:avLst/>
          </a:prstGeom>
          <a:ln w="0">
            <a:noFill/>
          </a:ln>
        </p:spPr>
      </p:pic>
      <p:sp>
        <p:nvSpPr>
          <p:cNvPr id="1918" name="Rectangle 7"/>
          <p:cNvSpPr/>
          <p:nvPr/>
        </p:nvSpPr>
        <p:spPr>
          <a:xfrm>
            <a:off x="236520" y="2162160"/>
            <a:ext cx="8650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节课你印象最深刻的是什么？通过课堂活动，你有什么体会和收获？和老师、同学交流一下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19" name="Picture 10" descr="C:\Documents and Settings\Administrator\桌面\我上学了副本.jpg"/>
          <p:cNvPicPr/>
          <p:nvPr/>
        </p:nvPicPr>
        <p:blipFill>
          <a:blip r:embed="rId2"/>
          <a:srcRect l="0" t="20452" r="0" b="6364"/>
          <a:stretch/>
        </p:blipFill>
        <p:spPr>
          <a:xfrm>
            <a:off x="5934240" y="3983040"/>
            <a:ext cx="27702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0" name="图片 1240069" descr=""/>
          <p:cNvPicPr/>
          <p:nvPr/>
        </p:nvPicPr>
        <p:blipFill>
          <a:blip r:embed="rId1"/>
          <a:stretch/>
        </p:blipFill>
        <p:spPr>
          <a:xfrm>
            <a:off x="187200" y="993600"/>
            <a:ext cx="877104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图片 1255426" descr=""/>
          <p:cNvPicPr/>
          <p:nvPr/>
        </p:nvPicPr>
        <p:blipFill>
          <a:blip r:embed="rId1"/>
          <a:stretch/>
        </p:blipFill>
        <p:spPr>
          <a:xfrm>
            <a:off x="11160" y="1727280"/>
            <a:ext cx="912348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2" name="图片 1254402" descr=""/>
          <p:cNvPicPr/>
          <p:nvPr/>
        </p:nvPicPr>
        <p:blipFill>
          <a:blip r:embed="rId1"/>
          <a:srcRect l="0" t="0" r="0" b="10746"/>
          <a:stretch/>
        </p:blipFill>
        <p:spPr>
          <a:xfrm>
            <a:off x="479520" y="866880"/>
            <a:ext cx="824868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图片 1253378" descr=""/>
          <p:cNvPicPr/>
          <p:nvPr/>
        </p:nvPicPr>
        <p:blipFill>
          <a:blip r:embed="rId1"/>
          <a:stretch/>
        </p:blipFill>
        <p:spPr>
          <a:xfrm>
            <a:off x="312840" y="1504800"/>
            <a:ext cx="847548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4" name="图片 1256458" descr=""/>
          <p:cNvPicPr/>
          <p:nvPr/>
        </p:nvPicPr>
        <p:blipFill>
          <a:blip r:embed="rId1"/>
          <a:stretch/>
        </p:blipFill>
        <p:spPr>
          <a:xfrm>
            <a:off x="439560" y="1998720"/>
            <a:ext cx="8266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5" name="图片 1259521" descr=""/>
          <p:cNvPicPr/>
          <p:nvPr/>
        </p:nvPicPr>
        <p:blipFill>
          <a:blip r:embed="rId1"/>
          <a:stretch/>
        </p:blipFill>
        <p:spPr>
          <a:xfrm>
            <a:off x="819000" y="1739880"/>
            <a:ext cx="74851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6" name="图片 1261569" descr=""/>
          <p:cNvPicPr/>
          <p:nvPr/>
        </p:nvPicPr>
        <p:blipFill>
          <a:blip r:embed="rId1"/>
          <a:stretch/>
        </p:blipFill>
        <p:spPr>
          <a:xfrm>
            <a:off x="360360" y="1104840"/>
            <a:ext cx="8296200" cy="1797120"/>
          </a:xfrm>
          <a:prstGeom prst="rect">
            <a:avLst/>
          </a:prstGeom>
          <a:ln w="0">
            <a:noFill/>
          </a:ln>
        </p:spPr>
      </p:pic>
      <p:pic>
        <p:nvPicPr>
          <p:cNvPr id="1867" name="图片 1261570" descr=""/>
          <p:cNvPicPr/>
          <p:nvPr/>
        </p:nvPicPr>
        <p:blipFill>
          <a:blip r:embed="rId2"/>
          <a:stretch/>
        </p:blipFill>
        <p:spPr>
          <a:xfrm>
            <a:off x="530280" y="3024360"/>
            <a:ext cx="5289480" cy="161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0:31:16Z</dcterms:created>
  <dc:creator/>
  <dc:description/>
  <dc:language>en-US</dc:language>
  <cp:lastModifiedBy>万润仪器贸易公司</cp:lastModifiedBy>
  <dcterms:modified xsi:type="dcterms:W3CDTF">2020-08-24T00:31:18Z</dcterms:modified>
  <cp:revision>13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